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4B0E-3C70-4754-B96E-7AA88EC92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5205-E249-4716-A3FA-B6F1C23A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2D43-52A0-4B7B-96EC-BC4DB62A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DF44-18D6-4FFF-B73A-9CF95A3B8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74B2-F59C-42BF-B684-DFA156158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551B-917D-428C-9411-A9DAF22A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8340-539E-4840-92C2-D4C1BA08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8774-5468-4264-B094-1E9C917D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7B45-6292-46AB-B78E-8E717278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BA76-30C7-40E6-A0C1-30843DDC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2272-F81A-439B-948B-4995B999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EF3A-9216-4DAD-BEA0-4173CF86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C38C-6702-4053-AA00-5B5AB538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07AB-161A-40EB-B7BA-19612E13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886AE-0166-4B97-9D80-70C339D0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9D5A-24E0-453A-8308-91153AE37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E155-6CEF-4B78-A983-0EE52DD24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E4D18-7D85-4E08-BD65-1CB98FBFE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2E09F-E904-47AB-8406-BA7F5572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41FCA-C85E-4F9E-807A-0ADCF62E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7AC6A-8F63-4060-AB25-1771696F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C9043-8EF2-442A-8679-55A82108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2DB7-D90B-47C6-8F02-617ED9CA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02A04-A882-4879-B96E-D687346C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61D36-133D-4819-B8D9-02259AC7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FEFC4-070D-4C0A-BEB8-3605F99A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EF81B-EE5E-447F-89DA-1905F7E0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265B4-3554-4C87-BEC7-7091A4F5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57A8A-756C-4057-BDE6-55BEFA360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F171B-F47A-4A01-995D-B0A1097DC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CCF18-6F70-418B-8242-133D080A3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4AFF8-5AF0-4125-8DAE-01AAE1D6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50E19-553C-4A7A-8EA6-3B363A2B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0DDF-5341-4DF0-9549-1740948A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72594-8F96-442D-933C-26D4F602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B1C80-F3DC-4091-9704-7F615AD8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C52CC-9C0B-4CA3-90E6-5141D554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1277C-475D-4ED9-A7A3-9442EAB7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2A638-BD6A-4983-832D-377D04CC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1706D-C4DD-456A-837A-CFEB383D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7803C-7961-4239-B92F-1CD82DD1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27E64-D4BE-470F-9918-27E7336FF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02420-E5B2-4A2C-B1E9-BF8B46FD5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6ACB9-8418-4479-84EA-AC50CEE17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22EA-75B4-44FB-A14E-6DA816CC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FF39E-A39B-474E-A725-FE73E828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E99E8-F7C2-45BA-ACB0-BA93F8E7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9DF44-258C-4913-964A-20C58B7A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0F740-A2F2-4DF2-83E3-B725AA11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28E22-A468-4A94-8B29-F751B559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427AE-AB29-4F43-B437-F4C76823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EDB05-731C-4B9C-B38E-24EDE30D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6148E-A582-4431-96BC-688FCDC2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A41C2-8648-4005-ACE7-62196BFC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0F3C8-49E5-4020-AE98-8562682B2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5CB2-885F-42FD-B570-D53458B0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7D5F3-B132-416A-8F64-1631C9DEC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83CCF-D1D6-48C4-9A41-B3BFF98A9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BAEBF-1B2F-4714-8B89-F54E583E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6A62D-0D11-4277-9905-9AB572D6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C59FA-9FC5-4DD7-96BE-9139B9EF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08432-0E99-4154-A921-AC834250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B711B-404F-449F-9D79-9EAC8489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02D69-6C14-4601-8923-5239D412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78673-41B0-4B0A-AEB0-F90D3570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4042D-7D06-4A0D-B998-318F96B7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EC0C-876C-42C7-8E8F-89313788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92868-9605-4D96-B496-9A2AD5B3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1AD92-BFC9-4C78-B590-48172DA37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3328F-9B72-4886-B219-8598BB558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56780-ADD1-4C2E-B6C1-7751169D8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86681-A693-45E8-BCA2-54339716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81251-A363-4D7E-A342-16703D49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F6B46-9E09-424A-AA09-84F305E6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9029D-1D68-449F-AE6D-60D9C786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A0942-EF5E-4B00-A89F-D94C0490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35E89-F2DF-4F04-839B-4C9E5375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0EC5-E874-4376-A90B-9265155C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9CCA0-0031-45F8-99A9-D539731D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A64B2-C216-4710-A11A-ED0DDED9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E9904-605C-425E-97E2-780C9828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B503D-041F-43FE-93A3-36F5EBF8D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9F54B-D807-4071-8A66-9B47A608D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C74D-3C86-4A94-BCBD-14815E84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A925-4918-41DA-8D0D-5FAE93B1562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ADD5-B757-430F-AA3A-D852BB008EF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7F51-81A3-4E57-8D21-C2FD41A8EE2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71DF-7006-49D4-ACEE-951FA307571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B5C3-8AF8-4830-8C15-30C86BBFFA2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6AD0-7518-4E79-8017-ADA9A9ECD8B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CE41-3829-442D-90EB-EF3E2C92635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2080" y="2356920"/>
            <a:ext cx="59976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Tunga"/>
              </a:rPr>
              <a:t>              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Tunga"/>
              </a:rPr>
              <a:t>СОЮЗЫ 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Tunga"/>
              </a:rPr>
              <a:t> СОЧИНИТЕЛЬНЫЕ И                                  ПОДЧИНИТЕЛЬНЫЕ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3499920" y="5085720"/>
            <a:ext cx="5643720" cy="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Вариант 1           Вариант 2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.Когда мы вернулись в деревню, уже все спал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2.Веет теплый ветер, и легкий пар клубится у рек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3.Все время доносился отдаленный рокот, а земля под ногами вздрагивал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4.Наталья Саввишна никак не могла понять, что Карл Иванович уехал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5.На левом фланге, куда звал меня Бурцев, происходило  жаркое дело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16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.По улицам бродили только куры, да изредка выла собак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16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2.Мы пошли по лосиному следу и вскоре увидели, что дорога эта ведет в болот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16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3.Ребята поднялись на холм, где находился их лагерь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16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4.Солнце уже зашло, и по низким луговым местам все затопил туман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16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5.Лесник, у которого мы остановились на ночлег, рассказал нам много нового об этих местах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1692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Проверим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. (Когда),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и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а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( что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5.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(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уда)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да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( что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( где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и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(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 которого)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Поработаем устно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.Если хочешь много знать, надо мало спат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2. Не учась и лаптя не сплетеш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3. Делу время, а потехе час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4. Неразумного учить, что в бездонную бочку воду лит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5. Не на пользу книги читать, коль одни вершки глотат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6. Корень учения горек, да плод его сладок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Озаглавьте тек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17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1.Вдруг среди шорохов и всплесков послышались тревожащие своей необыочностью            звуки. 2. Было похоже, что где-то совсем близко играла крошечная скрипка.3. Звуки мелодии были так слабы, что порывы ветра иногда обрывали , как паутинку, эту тонкую ниточку загадочной трели. 4. Прислушавшись, я уловил закономерную связь между скрипачом и ветром: стоило ветру немного утихнуть, как скрипка переходила на более низкие ноты, звук становился густым, и в нем отчетливо  улавливался  тембр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Озаглавьте тек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158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5.Когда же ветер усиливался, звуки забирались все выше и выше, они становились острыми, как жало, скрипка плакала и всхлипывала.6.Наконец я установил, что звуки исходили из засыпанной раковины  на гребне песчаного холмика. 7. Я осторожно взял раковину, чтобы посмотреть повнимательнее, но ничего особенного не нашел. 8. Я положил ее на прежнее место и приготовился слушать, но раковина-музыкант молчала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5520" indent="-1587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Озаглавьте тек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9. Похоже, что она рассердилась за то, что ее бесцеремонно потревожили, и ожидала, пока я снова уйд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Задания к тексту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Определите тип и стиль речи. Докажите свое мнение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.Из предложений 5-8 выпишите слово (слова) с чередующейся гласной в корне слова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2.Из предложения 6 выпишите слово, соответствующее орфограмее правописание      приставок на з-\с-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3.Из предложений 1-4 выпишите действительное причастие настоящего времени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14200"/>
            <a:ext cx="74995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Задания к тексту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143000"/>
            <a:ext cx="7499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4.Выпишите из текста все сочинительные союзы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5.Выпишите из текста все подчинительные союзы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6.Из  предложений 3-5 выпишите сравнения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7.Найдите предложение, соответствующее схеме [   (чтобы) ] и укажите его номер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8.Укажите кол-во грамматических основ в 4 предложении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Проверь себ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 Забирались, положи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Исходи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Тревожащ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И, н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Что, как, когда, чтобы, пок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. Как паутинку, острым, как жал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. 7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8. 5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   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95280" y="1773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1.Служебня часть речи, которая служит для связи простых предложений в составе сложного, называется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союз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предлог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частиц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Актуализация знаний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1587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асти речи в русском языке делятся на самостоятельные и …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1587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 служебным частям речи относятся…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1587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лужебная часть речи, которая служит для связи однородных членов в предложении, а также простых предложений в составе сложного – это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1587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юзы бывают …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1587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      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2. Укажите неверное утверждени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юзы делятся на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сочинительные и подчинитель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простые и состав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производные и непроизвод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   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3. Выберите ответ, где все слова в ряду- союзы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как, который, 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за, да, чтоб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потому что, зато, н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4. Укажите вариант ответа, в котором все союзы сочинительные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где, зато, такж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и, однако, ж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что, когда, д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16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5. Укажите предложение, в котором союз и соединяет однородные члены (знаки препинания не расставлены.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16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Мы долго не могли выбраться из леса и нам пришлось задержатьс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16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На улице сегодня сильный мороз и поездка отменяетс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16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Я вернусь и все вам расскаж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1641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6. Укажите сложносочиненное предложение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Мы не могли идти дальше, потому что заблудилис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Никто не знал пути домой и мы долго искали дорог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Наш отряд только вчера узнал, что опасность миновал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7. Укажите сложноподчиненное предложение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Когда над тайгой спустился туман, я подплыл к берег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Воробьи взметнулись стайкой и рассыпались вдал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За окном было холодно и вскоре пошел сильный дожд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Проверь себ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Б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. Б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. 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Домашнее зад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дберите из художественной литературы 10 предложений с сочинительными и подчинительными союзам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Сравните предложе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бо потемнело, и пошел снег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Я воротился домой, но не в душную комнату, а в сад и с наслаждением ходил по дорожкам, осыпанным снежными хлопьям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бо потемнело, потому что пошел снег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           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unga"/>
              </a:rPr>
              <a:t>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СОЮЗ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ОЧИНИТЕЛЬНЫЕ и ПОДЧИНИТЕЛЬНЫ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Сочинительные союз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rbel"/>
              </a:rPr>
              <a:t>И, а, но, да, зато, однако, же, то-то, или, либо, не то- не то, тоже, также</a:t>
            </a:r>
            <a:r>
              <a:rPr b="0" lang="ru-RU" sz="5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Подчинительные союз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13204"/>
                </a:solidFill>
                <a:latin typeface="Corbel"/>
              </a:rPr>
              <a:t>Что, чтобы, потому что, оттого что, по причине того что, где, когда, затем, пока, если, если бы, коль (коли), поэтому, так как, как, словно, точно, будто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  <a:ea typeface="Tunga"/>
              </a:rPr>
              <a:t>Спишите, расставьте недостающие знаки препинания, укажите типы союзов.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21120" indent="-15192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По горизонту весь день слоями лежит прозрачная мгла ( ) и в ней пропадают очертания низких берег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1120" indent="-15192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 Вечерняя заря начинается  ( ) когда солнце уже заходит за край земл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1120" indent="-15192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Река сверкала то голубым ( ) то зеленым свето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1120" indent="-15192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Накануне выглянуло солнце ( ) но дороги еще не совсем просохл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1120" indent="-151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over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" dur="indefinite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" dur="indefinite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1" dur="indefinite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2" dur="indefinite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5" dur="indefinite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6" dur="indefinite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9" dur="indefinite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0" dur="indefinite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4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7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0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3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  <a:ea typeface="Tunga"/>
              </a:rPr>
              <a:t>Спишите, расставьте недостающие знаки препинания, укажите типы союзов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Сразу за шатким деревянным мостиком начинался подъем в гору ( ) с которой было видно всю окрестност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. Слуга вышел и объявил ( ) что лошади готов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1" dur="indefinite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2" dur="indefinite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indefinite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5" dur="indefinite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6" dur="indefinite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Запишем предложе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ебята очень устали, но работа была еще не закончена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[  ]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но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утешественники приблизились к роднику, чтобы напиться вод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[  ]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( чтобы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1T11:13:43Z</dcterms:created>
  <dc:creator>N-Book</dc:creator>
  <dc:description/>
  <dc:language>en-US</dc:language>
  <cp:lastModifiedBy>Windows 7</cp:lastModifiedBy>
  <dcterms:modified xsi:type="dcterms:W3CDTF">2013-05-07T01:36:02Z</dcterms:modified>
  <cp:revision>18</cp:revision>
  <dc:subject/>
  <dc:title>Союзы сочинительные и подчинительные</dc:title>
</cp:coreProperties>
</file>